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cf4ea"/>
              </a:gs>
              <a:gs pos="100000">
                <a:srgbClr val="0316d1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99960" y="209520"/>
            <a:ext cx="1524600" cy="1524600"/>
            <a:chOff x="399960" y="209520"/>
            <a:chExt cx="1524600" cy="1524600"/>
          </a:xfrm>
        </p:grpSpPr>
        <p:sp>
          <p:nvSpPr>
            <p:cNvPr id="2" name=""/>
            <p:cNvSpPr/>
            <p:nvPr/>
          </p:nvSpPr>
          <p:spPr>
            <a:xfrm>
              <a:off x="552600" y="361800"/>
              <a:ext cx="1219680" cy="1219680"/>
            </a:xfrm>
            <a:custGeom>
              <a:avLst/>
              <a:gdLst/>
              <a:ahLst/>
              <a:rect l="0" t="0" r="r" b="b"/>
              <a:pathLst>
                <a:path w="3388" h="3388">
                  <a:moveTo>
                    <a:pt x="1694" y="0"/>
                  </a:moveTo>
                  <a:lnTo>
                    <a:pt x="0" y="1694"/>
                  </a:lnTo>
                  <a:lnTo>
                    <a:pt x="1694" y="3388"/>
                  </a:lnTo>
                  <a:lnTo>
                    <a:pt x="3388" y="1694"/>
                  </a:lnTo>
                  <a:lnTo>
                    <a:pt x="1694" y="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162080" y="20952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0" y="423"/>
                  </a:moveTo>
                  <a:lnTo>
                    <a:pt x="0" y="0"/>
                  </a:lnTo>
                  <a:lnTo>
                    <a:pt x="2118" y="2118"/>
                  </a:lnTo>
                  <a:lnTo>
                    <a:pt x="1695" y="2118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14d1b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99960" y="20952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2118" y="0"/>
                  </a:moveTo>
                  <a:lnTo>
                    <a:pt x="2118" y="423"/>
                  </a:lnTo>
                  <a:lnTo>
                    <a:pt x="423" y="2118"/>
                  </a:lnTo>
                  <a:lnTo>
                    <a:pt x="0" y="2118"/>
                  </a:lnTo>
                  <a:lnTo>
                    <a:pt x="2118" y="0"/>
                  </a:lnTo>
                  <a:close/>
                </a:path>
              </a:pathLst>
            </a:custGeom>
            <a:solidFill>
              <a:srgbClr val="8cf4e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62080" y="97164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1695" y="0"/>
                  </a:moveTo>
                  <a:lnTo>
                    <a:pt x="2118" y="0"/>
                  </a:lnTo>
                  <a:lnTo>
                    <a:pt x="0" y="2118"/>
                  </a:lnTo>
                  <a:lnTo>
                    <a:pt x="0" y="1695"/>
                  </a:lnTo>
                  <a:lnTo>
                    <a:pt x="1695" y="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99960" y="97164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423" y="0"/>
                  </a:moveTo>
                  <a:lnTo>
                    <a:pt x="2118" y="1695"/>
                  </a:lnTo>
                  <a:lnTo>
                    <a:pt x="2118" y="2118"/>
                  </a:lnTo>
                  <a:lnTo>
                    <a:pt x="0" y="0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cf4ea"/>
              </a:gs>
              <a:gs pos="100000">
                <a:srgbClr val="0316d1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99960" y="209520"/>
            <a:ext cx="1524600" cy="1524600"/>
            <a:chOff x="399960" y="209520"/>
            <a:chExt cx="1524600" cy="1524600"/>
          </a:xfrm>
        </p:grpSpPr>
        <p:sp>
          <p:nvSpPr>
            <p:cNvPr id="47" name=""/>
            <p:cNvSpPr/>
            <p:nvPr/>
          </p:nvSpPr>
          <p:spPr>
            <a:xfrm>
              <a:off x="552600" y="361800"/>
              <a:ext cx="1219680" cy="1219680"/>
            </a:xfrm>
            <a:custGeom>
              <a:avLst/>
              <a:gdLst/>
              <a:ahLst/>
              <a:rect l="0" t="0" r="r" b="b"/>
              <a:pathLst>
                <a:path w="3388" h="3388">
                  <a:moveTo>
                    <a:pt x="1694" y="0"/>
                  </a:moveTo>
                  <a:lnTo>
                    <a:pt x="0" y="1694"/>
                  </a:lnTo>
                  <a:lnTo>
                    <a:pt x="1694" y="3388"/>
                  </a:lnTo>
                  <a:lnTo>
                    <a:pt x="3388" y="1694"/>
                  </a:lnTo>
                  <a:lnTo>
                    <a:pt x="1694" y="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162080" y="20952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0" y="423"/>
                  </a:moveTo>
                  <a:lnTo>
                    <a:pt x="0" y="0"/>
                  </a:lnTo>
                  <a:lnTo>
                    <a:pt x="2118" y="2118"/>
                  </a:lnTo>
                  <a:lnTo>
                    <a:pt x="1695" y="2118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14d1b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99960" y="20952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2118" y="0"/>
                  </a:moveTo>
                  <a:lnTo>
                    <a:pt x="2118" y="423"/>
                  </a:lnTo>
                  <a:lnTo>
                    <a:pt x="423" y="2118"/>
                  </a:lnTo>
                  <a:lnTo>
                    <a:pt x="0" y="2118"/>
                  </a:lnTo>
                  <a:lnTo>
                    <a:pt x="2118" y="0"/>
                  </a:lnTo>
                  <a:close/>
                </a:path>
              </a:pathLst>
            </a:custGeom>
            <a:solidFill>
              <a:srgbClr val="8cf4e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62080" y="97164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1695" y="0"/>
                  </a:moveTo>
                  <a:lnTo>
                    <a:pt x="2118" y="0"/>
                  </a:lnTo>
                  <a:lnTo>
                    <a:pt x="0" y="2118"/>
                  </a:lnTo>
                  <a:lnTo>
                    <a:pt x="0" y="1695"/>
                  </a:lnTo>
                  <a:lnTo>
                    <a:pt x="1695" y="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9960" y="97164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423" y="0"/>
                  </a:moveTo>
                  <a:lnTo>
                    <a:pt x="2118" y="1695"/>
                  </a:lnTo>
                  <a:lnTo>
                    <a:pt x="2118" y="2118"/>
                  </a:lnTo>
                  <a:lnTo>
                    <a:pt x="0" y="0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99072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fff00"/>
                </a:solidFill>
                <a:latin typeface="Book Antiqua"/>
                <a:ea typeface="Book Antiqua"/>
              </a:rPr>
              <a:t>‰SŽÒ‚Ì‚½‚ß‚Ì</a:t>
            </a:r>
            <a:br>
              <a:rPr sz="1800"/>
            </a:br>
            <a:r>
              <a:rPr b="0" i="1" lang="en-US" sz="3600" spc="-1" strike="noStrike">
                <a:solidFill>
                  <a:srgbClr val="ffff00"/>
                </a:solidFill>
                <a:latin typeface="Book Antiqua"/>
                <a:ea typeface="Book Antiqua"/>
              </a:rPr>
              <a:t>ŽÀ‘HƒR[ƒpƒXŒ¾ŒêŠw“ü–å</a:t>
            </a:r>
            <a:br>
              <a:rPr sz="3600"/>
            </a:br>
            <a:br>
              <a:rPr sz="3600"/>
            </a:br>
            <a:r>
              <a:rPr b="0" lang="en-US" sz="2000" spc="-1" strike="noStrike">
                <a:solidFill>
                  <a:srgbClr val="ffff00"/>
                </a:solidFill>
                <a:latin typeface="Book Antiqua"/>
                <a:ea typeface="Book Antiqua"/>
              </a:rPr>
              <a:t>2000</a:t>
            </a:r>
            <a:r>
              <a:rPr b="0" lang="en-US" sz="1800" spc="-1" strike="noStrike">
                <a:solidFill>
                  <a:srgbClr val="ffff00"/>
                </a:solidFill>
                <a:latin typeface="Book Antiqua"/>
                <a:ea typeface="Book Antiqua"/>
              </a:rPr>
              <a:t>”N </a:t>
            </a:r>
            <a:r>
              <a:rPr b="0" lang="en-US" sz="2000" spc="-1" strike="noStrike">
                <a:solidFill>
                  <a:srgbClr val="ffff00"/>
                </a:solidFill>
                <a:latin typeface="Book Antiqua"/>
                <a:ea typeface="Book Antiqua"/>
              </a:rPr>
              <a:t>5</a:t>
            </a:r>
            <a:r>
              <a:rPr b="0" lang="en-US" sz="1800" spc="-1" strike="noStrike">
                <a:solidFill>
                  <a:srgbClr val="ffff00"/>
                </a:solidFill>
                <a:latin typeface="Book Antiqua"/>
                <a:ea typeface="Book Antiqua"/>
              </a:rPr>
              <a:t>ŒŽ</a:t>
            </a:r>
            <a:r>
              <a:rPr b="0" lang="en-US" sz="2000" spc="-1" strike="noStrike">
                <a:solidFill>
                  <a:srgbClr val="ffff00"/>
                </a:solidFill>
                <a:latin typeface="Book Antiqua"/>
                <a:ea typeface="Book Antiqua"/>
              </a:rPr>
              <a:t>26</a:t>
            </a:r>
            <a:r>
              <a:rPr b="0" lang="en-US" sz="1800" spc="-1" strike="noStrike">
                <a:solidFill>
                  <a:srgbClr val="ffff00"/>
                </a:solidFill>
                <a:latin typeface="Book Antiqua"/>
                <a:ea typeface="Book Antiqua"/>
              </a:rPr>
              <a:t>“ú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Book Antiqua"/>
                <a:ea typeface="Book Antiqua"/>
              </a:rPr>
              <a:t>“Œ‹ž‘åŠwŠO‘Œê‹³ˆçŒ¤‹†‰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71600" y="457200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ccccff"/>
                </a:solidFill>
                <a:latin typeface="Book Antiqua"/>
                <a:ea typeface="Book Antiqua"/>
              </a:rPr>
              <a:t>“</a:t>
            </a:r>
            <a:r>
              <a:rPr b="0" lang="en-US" sz="2000" spc="-1" strike="noStrike">
                <a:solidFill>
                  <a:srgbClr val="ccccff"/>
                </a:solidFill>
                <a:latin typeface="Book Antiqua"/>
                <a:ea typeface="Book Antiqua"/>
              </a:rPr>
              <a:t>Œ‹ž‘åŠw‘åŠw‰@‘‡•¶‰»Œ¤‹†‰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0574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ccccff"/>
                </a:solidFill>
                <a:latin typeface="Book Antiqua"/>
                <a:ea typeface="Book Antiqua"/>
              </a:rPr>
              <a:t>             </a:t>
            </a:r>
            <a:r>
              <a:rPr b="0" lang="en-US" sz="2000" spc="-1" strike="noStrike">
                <a:solidFill>
                  <a:srgbClr val="ccccff"/>
                </a:solidFill>
                <a:latin typeface="Book Antiqua"/>
                <a:ea typeface="Book Antiqua"/>
              </a:rPr>
              <a:t>õ’J‘×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ccccff"/>
                </a:solidFill>
                <a:latin typeface="Book Antiqua"/>
                <a:ea typeface="Book Antiqua"/>
              </a:rPr>
              <a:t>(Œ¾Œêî•ñ‰ÈŠwêU D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8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fafd00"/>
                </a:solidFill>
                <a:latin typeface="Book Antiqua"/>
                <a:ea typeface="Book Antiqua"/>
              </a:rPr>
              <a:t>   </a:t>
            </a:r>
            <a:r>
              <a:rPr b="0" i="1" lang="en-US" sz="3600" spc="-1" strike="noStrike">
                <a:solidFill>
                  <a:srgbClr val="fafd00"/>
                </a:solidFill>
                <a:latin typeface="Book Antiqua"/>
                <a:ea typeface="Book Antiqua"/>
              </a:rPr>
              <a:t>Thank you. Any 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62320" y="1900080"/>
            <a:ext cx="2314440" cy="3052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263680" y="5195880"/>
            <a:ext cx="4124160" cy="7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-- ‰SŽÒ‚Ì‚½‚ß‚ÌŽÀ‘HƒR[ƒpƒXŒ¾ŒêŠw“ü–å 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õ’J‘×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838080" y="488880"/>
            <a:ext cx="777888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”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­•\—vŽ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1828800"/>
            <a:ext cx="8534520" cy="66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ƒR[ƒpƒXŒ¾ŒêŠw‚Ìl‚¦•û‚Æ•û–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ã•\“I“dŽqƒR[ƒpƒX‚ÌŠT—v‚Æ‚»‚Ì“üŽè–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ÆŽ©ƒR[ƒpƒX‚Ìì¬ -- ‚¢‚­‚Â‚©‚Ì‹Zp“I‚È–â‘è‚Æ‚»‚Ì‰ðŒˆ–@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ƒR[ƒpƒX‚Ö‚ÌŒ¾Œêî•ñ•t—^ -- Automatic POS Tagging ‚ð’†S‚É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ƒR[ƒpƒXƒf[ƒ^‚ÌŒŸõ‚Æ•ªÍ‚Ì‚½‚ß‚Ìƒ\ƒtƒgƒEƒG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-- WordSmith,  TXTANA, ‚¨‚æ‚Ñ‚¢‚­‚Â‚©‚ÌŽ©ì AWK / Perl ƒXƒNƒŠƒvƒ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‰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pŒê‹³ˆç‚Ö‚Ì‰ž—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--  100–œŒê‚Ì ESP ƒR[ƒpƒX‚ðŽÀ‘•‚µ‚½ Online Concordancer ‚ðŽg‚Á‚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Data-Driven Writing ‚ÌŽÀŒ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--  ƒCƒ“ƒ^ƒ‰ƒNƒeƒBƒ”‚È‹³ˆç—pƒz[ƒ€ƒy[ƒW‚Ìì¬‚Æ‚»‚ÌŠˆ—p–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ƒR[ƒpƒXŒ¾ŒêŠw‚ÌŽå—v•¶Œ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Ž¿‹^‰ž“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8080" y="419040"/>
            <a:ext cx="7778880" cy="13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1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ƒR[ƒpƒXŒ¾ŒêŠw‚Ìl‚¦•û‚Æ•û–@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905120"/>
            <a:ext cx="8610480" cy="610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pus Linguistics is not a discipline in itself; it is a corpus-based, data-driven approach to linguistic study whether lexical, syntactic, semantic, pragmatic, discoursal,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Basic orientation {performance &gt; competenc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language &gt; LANGU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scriptive and empirical &gt; theoretical and rationalistic}</a:t>
            </a:r>
            <a:r>
              <a:rPr b="0" lang="en-US" sz="9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A central tenet of </a:t>
            </a:r>
            <a:r>
              <a:rPr b="0" i="1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pus Linguistics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is that the frequency of words and collocation is      not simply an uninteresting by-product of using language to communicate about common events in the world, but has important consequences for the cognitive repre-sentation of linguistic knowledge (e.g. grammar) and for second language teaching.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&lt; Michael Barlow, Rice Universit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What is a corpu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. . . A body of texts, utterances, or other specimens considered more or less repre-sentative of a language, and usually stored as an electronic database. Currently,    computer corpora may store many millions of running words, whose features can            be analysed by means of tagging . . . and the use of concordancing programs. </a:t>
            </a:r>
            <a:r>
              <a:rPr b="0" i="1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pus linguistics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udies data in any such corpus.            &lt;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Tony McEnery, Lancaster Universit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8080" y="419040"/>
            <a:ext cx="7778880" cy="13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2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‘ã•\“I“dŽqƒR[ƒpƒX‚ÌŠT—v‚»‚Ì“üŽè–@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2057400"/>
            <a:ext cx="8077320" cy="49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ƒR[ƒpƒX‚ÌŽí—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--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Sample Corpus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(e.g. Brown Corpus, LOB Corpus, BNC)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vs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Monitor Corpus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(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BUILD Bank of Engli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--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General Purpose Corpus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(e.g. Brown, LOB, etc.)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vs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Special Purpose Corpus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(e.g. Guangzhou Petroleum English  Corpus,  Business Letter Corpus [YS], etc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--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Synchronic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(e.g. Brown, LOB)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vs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 Diachronic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(e.g. Helsinki Corpus of OE/ME)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--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Written Corpus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vs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Spoken Corpus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(e.g. LLC, IBM-Lancaster Corpus, MiCASE, Cor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of  Spoken Professional American English [U-NCar], CHILD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--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S Corpus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vs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NS/Learner Corpus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(e.g. ICE Corpus [UC-Lon], Japane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Learner Corpus [Asao et al.], Corpus of Japanese Users of EBP [YS]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‚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¨‚à‚È“dŽqƒR[ƒpƒX/ƒeƒNƒXƒg‚Ì“üŽè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-- ALEX, Great Books Online, Project Gutenberge, Oxford Text Archive, IC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pus collection (Bergen, Nor), LDC (Upenn), MiCASE (UMi), etc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(Suspend the show and go to LIN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8080" y="419040"/>
            <a:ext cx="7778880" cy="15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3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“ÆŽ©ƒR[ƒpƒX‚Ìì¬ 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-- ‚¢‚­‚Â‚©‚Ì‹Zp“I‚È–â‘è‚Æ‚»‚Ì‰ðŒˆ–@ --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905120"/>
            <a:ext cx="7772400" cy="51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ƒR[ƒpƒXƒfƒUƒCƒ“‚ÌŒˆ’è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(type, size, source, annotation scheme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ƒf[ƒ^‚ÌŽû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-- ƒCƒ“ƒ^[ƒlƒbƒg‚©‚ç‚Ìƒ_ƒEƒ“ƒ[ƒhACD-ROM ‚©‚ç‚ÌŽæ‚èž‚ÝAƒXƒLƒƒƒi[‚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     ‚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æ‚é•¶ŽšƒeƒNƒXƒg‚ÌƒfƒWƒ^ƒ‹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ƒf[ƒ^‚Ì®Œ`‚Æ•Ò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Book Antiqua"/>
                <a:ea typeface="Book Antiqua"/>
              </a:rPr>
              <a:t>—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Book Antiqua"/>
                <a:ea typeface="Book Antiqua"/>
              </a:rPr>
              <a:t>á 1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F CNN HeadlineNewsMail ‚Ìƒf[ƒ^‚ð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seikei.bat ‚ðŽg‚Á‚Ä®Œ`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sp_del.awk </a:t>
            </a:r>
            <a:r>
              <a:rPr b="0" lang="en-US" sz="16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=&gt;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l_sp_del.awk </a:t>
            </a:r>
            <a:r>
              <a:rPr b="0" lang="en-US" sz="16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=&gt;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del_hyph.awk </a:t>
            </a:r>
            <a:r>
              <a:rPr b="0" lang="en-US" sz="16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=&gt;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ad_sp_ed.aw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=&gt;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l_sp_del.awk </a:t>
            </a:r>
            <a:r>
              <a:rPr b="0" lang="en-US" sz="16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=&gt;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ad_sharp.awk </a:t>
            </a:r>
            <a:r>
              <a:rPr b="0" lang="en-US" sz="16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=&gt;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del_rtn.awk </a:t>
            </a:r>
            <a:r>
              <a:rPr b="0" lang="en-US" sz="16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=&gt;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del_null.aw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Book Antiqua"/>
                <a:ea typeface="Book Antiqua"/>
              </a:rPr>
              <a:t>—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Book Antiqua"/>
                <a:ea typeface="Book Antiqua"/>
              </a:rPr>
              <a:t>á2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F •¶’PˆÊ‚Ì‰üsì‹Æ‚Æ•¶”Ô†‚ÌŽ©“®‘}“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keline.awk =&gt; txt_id.aw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ŠeŽíî•ñ‚Ì•t—^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-- ƒeƒNƒXƒgî•ñ•t—^ (textual markup) ‚Ìˆê”Ê“IŒ`Ž® (COCOA and TEI-SGM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-- Œ¾Œêî•ñ‚Ì•t—^ (linguistic annot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(Suspend the show and go to Explorer -&gt;  MS-DOS  -&gt; AWK/cnn|data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8080" y="419040"/>
            <a:ext cx="7778880" cy="16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4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ƒR[ƒpƒX‚Ö‚ÌŒ¾Œêî•ñ•t—^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Ž©“®•iŽŒƒ^ƒO•t‚¯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(Automatic POS Tagging) ‚ð’†S‚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1981080"/>
            <a:ext cx="8305920" cy="473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Œ¾Œêî•ñ‚ÌŽí—Þ‚Æ‚»‚Ì•t—^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--  •iŽŒî•ñ  (POS tagg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--  \•¶î•ñ  (syntactic tagging/pars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--  ’k˜bî•ñ  (discourse and/or textual features tagg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--  ‰C—¥î•ñ  (prosodic  tagg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--  ˆÓ–¡î•ñ  (semantic tagg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ƒR[ƒpƒX‚Ö‚ÌŽ©“®•iŽŒ•t—^‚Ì—ðŽ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-- Brown Corpus  1970-78   (-&gt; Brill Tagger, etc. =&gt; Penn Treebank Project/LDC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-- LOB Corpus 1978-83  (-&gt;  CLAWS =&gt; BNC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Eric Brill ‚Ì Rule-based Tagger  (ver. 1.14) ‚É‚æ‚éŽ©“®ƒ^ƒO•t‚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1)  ŽÀs‚ÌŽè‡‚¨‚æ‚Ñ¸“x‚ÌŒŸØ   2) BLC Corpus  (MA version 1998) ‚Ö‚Ì POSƒ^ƒO•t‚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ƒCƒ“ƒ^[ƒlƒbƒgŒo—R‚Å—˜—p‚Å‚«‚é Online POS Tagging ‚É‚Â‚¢‚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(Suspend the show and go to Explorer -&gt; Btagger; =&gt; LIN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14400" y="228600"/>
            <a:ext cx="8077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ƒR[ƒpƒXƒf[ƒ^‚ÌŒŸõ‚Æ•ªÍ‚Ì‚½‚ß‚Ì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ƒ\ƒtƒgƒEƒGƒ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1905120"/>
            <a:ext cx="7772400" cy="55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TXTANA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‚Æ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WordSm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‚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»‚Ì‘¼‚ÌŠù¬ƒ\ƒtƒgƒEƒGƒA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(ƒtƒŠ[ƒEƒFƒA‚Ü‚½‚ÍƒVƒFƒAƒEƒFƒA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Ž©ì AWK / Perl ƒXƒNƒŠƒvƒ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--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mk_list.awk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= 1)  •¡”‚ÌƒR[ƒpƒX‚ðƒCƒ“ƒvƒbƒg‚Æ‚µ‚ÄŒêœb•p“xƒe[ƒuƒ‹‚ðì¬   2)  •p“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”‚ð•W€‰»‚µ‚Äo—Í   3)  ƒx[ƒXƒtƒ@ƒCƒ‹‚ÆÆ‡‚µA“Á’è‚ÌŒêœb‚¾‚¯‚Ìƒe[ƒuƒ‹‚ðì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-- 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Word  Level Checker (WLC)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= ƒeƒNƒXƒg’†‚ÌŒêœb‚Ì“ïˆÕ“x‚ðŽ©“®”»’è‚µ‚ÄAŒ‹‰Ê‚ð“Œ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ƒf[ ƒ^‚Æ‚Æ‚à‚Éˆê——•\‚ÆƒOƒ‰ƒt‚Åo—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-- 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entence Profiler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= ƒeƒNƒXƒg’†‚Ì•¶‚ÌƒZƒ“ƒeƒ“ƒX‚ÌŒê”‚¨‚æ‚Ñ qŒê”‚ðƒJƒEƒ“ƒg‚µAŒ‹‰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    ‚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ð“Œvƒf[ƒ^‚Æ‚Æ‚à‚Éˆê——•\‚ÆƒOƒ‰ƒt‚Åo—Í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‰ž—pŒ¤‹†—á (“</a:t>
            </a:r>
            <a:r>
              <a:rPr b="0" i="1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ext Profiling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” = Mark Petersen Text Analysi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-- 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PF (Idiom and Phrase Finder)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= ‚ ‚ç‚©‚¶‚ß—pˆÓ‚µ‚½Ž«‘ƒtƒ@ƒCƒ‹‚ÉŠî‚Ã‚«A‚±‚Ì’†‚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Žw’è‚µ‚½“Á’è‚Ì•¶Žš—ñ‚ÌƒeƒNƒXƒg’†‚Å‚ÌoŒ»•p“x‚ðŽ©“®Œv‘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-- 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Online BLC Concordancer (CGI Perl script)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= Business Letter Corpus (p‚Œain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OS-tagged versions) ‚ÉƒIƒ“ƒ‰ƒCƒ“‚Å ƒAƒNƒZƒX‚µAƒL[ƒ[ƒhŒŸõ‚ÌŒ‹‰Ê‚ð KWICo—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(Suspend the show and go to Explorer -&gt; AWK -&gt; test]  . . .  [Explorer -&gt; MA -&gt; BLC Wordlist]  . . .  [WLC = Hpmepage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8080" y="419040"/>
            <a:ext cx="7778880" cy="16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6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‰pŒê‹³ˆç‚Ö‚Ì‰ž—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209680"/>
            <a:ext cx="7772400" cy="41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100–œŒê‚Ì ESP ƒR[ƒpƒX‚ðŽÀ‘•‚µ‚½ Online Concordancer ‚ðŽg‚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‚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½ Data-Driven Writing ‚ÌŽÀŒ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-- why “online BLC concordancer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-- rationale of DDL in T-EF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ƒCƒ“ƒ^ƒ‰ƒNƒeƒBƒ”‚È‹³ˆç—pƒz[ƒ€ƒy[ƒW‚Ìì¬‚Æ‚»‚ÌŠˆ—p–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  <a:ea typeface="Book Antiqua"/>
              </a:rPr>
              <a:t>(Suspend the show and go to Homepage -&gt; KWIC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52280" y="152280"/>
            <a:ext cx="7772400" cy="11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3600" spc="-1" strike="noStrike">
                <a:solidFill>
                  <a:srgbClr val="fafd00"/>
                </a:solidFill>
                <a:latin typeface="Book Antiqua"/>
                <a:ea typeface="Book Antiqua"/>
              </a:rPr>
              <a:t>     </a:t>
            </a:r>
            <a:r>
              <a:rPr b="0" i="1" lang="en-US" sz="2800" spc="-1" strike="noStrike">
                <a:solidFill>
                  <a:srgbClr val="fafd00"/>
                </a:solidFill>
                <a:latin typeface="Book Antiqua"/>
                <a:ea typeface="Book Antiqua"/>
              </a:rPr>
              <a:t>7</a:t>
            </a:r>
            <a:r>
              <a:rPr b="0" i="1" lang="en-US" sz="2400" spc="-1" strike="noStrike">
                <a:solidFill>
                  <a:srgbClr val="fafd00"/>
                </a:solidFill>
                <a:latin typeface="Book Antiqua"/>
                <a:ea typeface="Book Antiqua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fafd00"/>
                </a:solidFill>
                <a:latin typeface="Book Antiqua"/>
                <a:ea typeface="Book Antiqua"/>
              </a:rPr>
              <a:t>           </a:t>
            </a:r>
            <a:r>
              <a:rPr b="0" i="1" lang="en-US" sz="3200" spc="-1" strike="noStrike">
                <a:solidFill>
                  <a:srgbClr val="fafd00"/>
                </a:solidFill>
                <a:latin typeface="Book Antiqua"/>
                <a:ea typeface="Book Antiqua"/>
              </a:rPr>
              <a:t>ƒR[ƒpƒXŒ¾ŒêŠw‚ÌŽå—v•¶Œ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051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1.  Ö“¡‘¼ (•Ò) 1998. </a:t>
            </a:r>
            <a:r>
              <a:rPr b="0" lang="en-US" sz="1600" spc="-1" strike="noStrike">
                <a:solidFill>
                  <a:srgbClr val="fafd00"/>
                </a:solidFill>
                <a:latin typeface="Book Antiqua"/>
                <a:ea typeface="Book Antiqua"/>
              </a:rPr>
              <a:t>w‰pŒêƒR[ƒpƒXŒ¾ŒêŠwFŠî‘b‚ÆŽÀ‘Hx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 Œ¤‹†ŽÐo”Å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2.   McEnery, T. &amp; A. Wilson. 1996.  </a:t>
            </a:r>
            <a:r>
              <a:rPr b="1" i="1" lang="en-US" sz="1600" spc="-1" strike="noStrike">
                <a:solidFill>
                  <a:srgbClr val="fafd00"/>
                </a:solidFill>
                <a:latin typeface="Book Antiqua"/>
                <a:ea typeface="Book Antiqua"/>
              </a:rPr>
              <a:t>Corpus Linguistics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Edinburgh  Univ. Pr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3.   Kennedy, G. 1998.  </a:t>
            </a:r>
            <a:r>
              <a:rPr b="1" i="1" lang="en-US" sz="1600" spc="-1" strike="noStrike">
                <a:solidFill>
                  <a:srgbClr val="fafd00"/>
                </a:solidFill>
                <a:latin typeface="Book Antiqua"/>
                <a:ea typeface="Book Antiqua"/>
              </a:rPr>
              <a:t>An Introduction to Corpus Linguistics</a:t>
            </a:r>
            <a:r>
              <a:rPr b="0" lang="en-US" sz="1600" spc="-1" strike="noStrike">
                <a:solidFill>
                  <a:srgbClr val="fafd00"/>
                </a:solidFill>
                <a:latin typeface="Book Antiqua"/>
                <a:ea typeface="Book Antiqua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 Longm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4.   Biber, D. et. al. 1998.  </a:t>
            </a:r>
            <a:r>
              <a:rPr b="1" i="1" lang="en-US" sz="1600" spc="-1" strike="noStrike">
                <a:solidFill>
                  <a:srgbClr val="fafd00"/>
                </a:solidFill>
                <a:latin typeface="Book Antiqua"/>
                <a:ea typeface="Book Antiqua"/>
              </a:rPr>
              <a:t>Corpus Linguistics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. Cambridge Univ. Pr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5.   Aijmer, K. &amp; B. Alternberg. (eds.)  1991. </a:t>
            </a:r>
            <a:r>
              <a:rPr b="1" i="1" lang="en-US" sz="1600" spc="-1" strike="noStrike">
                <a:solidFill>
                  <a:srgbClr val="fafd00"/>
                </a:solidFill>
                <a:latin typeface="Book Antiqua"/>
                <a:ea typeface="Book Antiqua"/>
              </a:rPr>
              <a:t>English</a:t>
            </a:r>
            <a:r>
              <a:rPr b="1" i="1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r>
              <a:rPr b="1" i="1" lang="en-US" sz="1600" spc="-1" strike="noStrike">
                <a:solidFill>
                  <a:srgbClr val="fafd00"/>
                </a:solidFill>
                <a:latin typeface="Book Antiqua"/>
                <a:ea typeface="Book Antiqua"/>
              </a:rPr>
              <a:t>Corpus Linguistics</a:t>
            </a:r>
            <a:r>
              <a:rPr b="1" i="1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 Longma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6.   Thomas, J. &amp; M. Short. 1996.  </a:t>
            </a:r>
            <a:r>
              <a:rPr b="1" i="1" lang="en-US" sz="1600" spc="-1" strike="noStrike">
                <a:solidFill>
                  <a:srgbClr val="fafd00"/>
                </a:solidFill>
                <a:latin typeface="Book Antiqua"/>
                <a:ea typeface="Book Antiqua"/>
              </a:rPr>
              <a:t>Using Corpora for Language Research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. Longma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7.   Oakes, M.P. 1998.  </a:t>
            </a:r>
            <a:r>
              <a:rPr b="1" i="1" lang="en-US" sz="1600" spc="-1" strike="noStrike">
                <a:solidFill>
                  <a:srgbClr val="fafd00"/>
                </a:solidFill>
                <a:latin typeface="Book Antiqua"/>
                <a:ea typeface="Book Antiqua"/>
              </a:rPr>
              <a:t>Statistics for Corpus Linguistics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.  Edinburgh Univ. Pr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8.   Kucera, H. &amp;  W.N. Francis. 1967.  </a:t>
            </a:r>
            <a:r>
              <a:rPr b="1" i="1" lang="en-US" sz="1600" spc="-1" strike="noStrike">
                <a:solidFill>
                  <a:srgbClr val="fafd00"/>
                </a:solidFill>
                <a:latin typeface="Book Antiqua"/>
                <a:ea typeface="Book Antiqua"/>
              </a:rPr>
              <a:t>Computational Analysis of Present-day American English.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Brown Univ. Pr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9.   Francis, W.N. &amp;   H.  Kucera. 1982.  </a:t>
            </a:r>
            <a:r>
              <a:rPr b="1" i="1" lang="en-US" sz="1600" spc="-1" strike="noStrike">
                <a:solidFill>
                  <a:srgbClr val="fafd00"/>
                </a:solidFill>
                <a:latin typeface="Book Antiqua"/>
                <a:ea typeface="Book Antiqua"/>
              </a:rPr>
              <a:t>Frequency Analysis of English Usage: Lexicon and Grammar.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 Houghton Mifflin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10.  Johansson, S. &amp; K. Hofland. 1989.  </a:t>
            </a:r>
            <a:r>
              <a:rPr b="1" i="1" lang="en-US" sz="1600" spc="-1" strike="noStrike">
                <a:solidFill>
                  <a:srgbClr val="fafd00"/>
                </a:solidFill>
                <a:latin typeface="Book Antiqua"/>
                <a:ea typeface="Book Antiqua"/>
              </a:rPr>
              <a:t>Frequency Analysis of English Vocabulary and Grammar Based on the LOB Corpus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. (Vols. 1 &amp; 2).  Oxford: Clarendon P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w‰pŒêƒR[ƒpƒXŒ¤‹†x ‰pŒêƒR[ƒpƒXŠw‰ïŽ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ternational Journal of Corpus Linguistics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John Benjamins Pub. 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ƒ}ƒCƒNƒƒ\ƒtƒgŠ”Ž®‰ïŽÐ</dc:creator>
  <dc:description/>
  <dc:language>en-US</dc:language>
  <cp:lastModifiedBy>ƒ}ƒCƒNƒƒ\ƒtƒgŠ”Ž®‰ïŽÐ</cp:lastModifiedBy>
  <cp:revision>0</cp:revision>
  <dc:subject/>
  <dc:title>ËÞ¼ÞÈ½ Ìß×Ý</dc:title>
</cp:coreProperties>
</file>